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84A8-0E1D-42BE-886C-2B61B1FD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7CD7-A5EA-4D77-AE9C-2FE5F8FB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10A8-63E6-473A-806E-36726BEC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3106-958E-4BB1-9F1D-A95E4D36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D2CE-834C-4B48-839F-FC0DA8DC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0492-7A11-4B41-B59E-63E77447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E085-B8CF-4F77-94F4-1E4EACBB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FF12-4565-42B2-9FBA-06426A26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8218-CB89-4328-9FC5-7D8748AB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FC34-DA6F-45A8-AB22-171E9765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DAB9-2EA4-4DBF-BBDF-551A81E6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A39-057D-4B61-B43D-29680326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B996-C8FF-45D5-A42D-6AFB9351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6DFD-D551-41D8-884D-0E8357B6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EB9B-172D-41C7-8FA3-A4220888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8C19-132F-4764-8048-2E16FF4D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DE03-93E2-4474-B0F5-A3CC9709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4AC-7FA4-43DF-A5FD-2E946F99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20FB-2E79-4662-8BA6-56FBE75A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98B-7673-4E7B-9486-14BBE69B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566-2CBA-4EF3-B10A-B045906F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9512-537A-4C4F-8667-DB4DC4D2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FEE-04CC-4DBD-BCA0-CFCD7594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F3C-155F-41E8-8E98-B17F141C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A793-1207-40CB-86D1-1CD929ACE9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1028-1328-4B12-B5B1-5970EED041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St Mary’s Primary School,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Hay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32000" y="573372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TLL Mid – Point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183280" cy="347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ree questions we still have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o next with future planning and wik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time do we have to complete our action pl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we know we have succeeded in implementing our pl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did we set out to d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te an action plan targeting our “amber lights” from our first LTLL meet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on our acti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sit our action plan regularly to see if any other issues arise that need dealing wi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OME CONFIDENT IN USING TECHNOLOGY WITHIN OUR SCHOOL FOR THE DEVELOPMENT OF STAFF AND STUDE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468360" y="1381680"/>
            <a:ext cx="8197560" cy="3340080"/>
            <a:chOff x="468360" y="1381680"/>
            <a:chExt cx="8197560" cy="3340080"/>
          </a:xfrm>
        </p:grpSpPr>
        <p:cxnSp>
          <p:nvCxnSpPr>
            <p:cNvPr id="217" name="_s90124"/>
            <p:cNvCxnSpPr>
              <a:stCxn id="218" idx="0"/>
              <a:endCxn id="219" idx="2"/>
            </p:cNvCxnSpPr>
            <p:nvPr/>
          </p:nvCxnSpPr>
          <p:spPr>
            <a:xfrm flipV="1" rot="16200000">
              <a:off x="5879520" y="1504800"/>
              <a:ext cx="162720" cy="2788200"/>
            </a:xfrm>
            <a:prstGeom prst="bentConnector3">
              <a:avLst>
                <a:gd name="adj1" fmla="val 494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0" name="_s90123"/>
            <p:cNvCxnSpPr>
              <a:stCxn id="221" idx="0"/>
              <a:endCxn id="219" idx="2"/>
            </p:cNvCxnSpPr>
            <p:nvPr/>
          </p:nvCxnSpPr>
          <p:spPr>
            <a:xfrm flipV="1">
              <a:off x="4566960" y="2817720"/>
              <a:ext cx="1800" cy="162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2" name="_s90122"/>
            <p:cNvCxnSpPr>
              <a:stCxn id="223" idx="0"/>
              <a:endCxn id="219" idx="2"/>
            </p:cNvCxnSpPr>
            <p:nvPr/>
          </p:nvCxnSpPr>
          <p:spPr>
            <a:xfrm flipH="1" flipV="1" rot="5400000">
              <a:off x="3092040" y="1505160"/>
              <a:ext cx="162720" cy="2787840"/>
            </a:xfrm>
            <a:prstGeom prst="bentConnector3">
              <a:avLst>
                <a:gd name="adj1" fmla="val 494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9" name="_s90118"/>
            <p:cNvSpPr/>
            <p:nvPr/>
          </p:nvSpPr>
          <p:spPr>
            <a:xfrm>
              <a:off x="3555360" y="1381680"/>
              <a:ext cx="2023920" cy="1435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omic Sans MS"/>
                </a:rPr>
                <a:t>St Mary’s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omic Sans MS"/>
                </a:rPr>
                <a:t>LTLL focus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90119"/>
            <p:cNvSpPr/>
            <p:nvPr/>
          </p:nvSpPr>
          <p:spPr>
            <a:xfrm>
              <a:off x="468360" y="2981880"/>
              <a:ext cx="2622960" cy="1739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Focus 5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ducative Leadership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Leadership for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professional learn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90120"/>
            <p:cNvSpPr/>
            <p:nvPr/>
          </p:nvSpPr>
          <p:spPr>
            <a:xfrm>
              <a:off x="3255840" y="2981880"/>
              <a:ext cx="2622600" cy="1739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Focus 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uthentic Learn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rganising fo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earn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_s90121"/>
            <p:cNvSpPr/>
            <p:nvPr/>
          </p:nvSpPr>
          <p:spPr>
            <a:xfrm>
              <a:off x="6043320" y="2981880"/>
              <a:ext cx="2622600" cy="1739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Focus 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uthentic Learn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tandards for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earn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971640" y="3141720"/>
            <a:ext cx="1439640" cy="1150920"/>
          </a:xfrm>
          <a:custGeom>
            <a:avLst/>
            <a:gdLst>
              <a:gd name="textAreaLeft" fmla="*/ 74520 w 1439640"/>
              <a:gd name="textAreaRight" fmla="*/ 1365120 w 143964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27017" h="21600">
                <a:moveTo>
                  <a:pt x="0" y="0"/>
                </a:moveTo>
                <a:lnTo>
                  <a:pt x="27017" y="0"/>
                </a:lnTo>
                <a:lnTo>
                  <a:pt x="27017" y="21600"/>
                </a:lnTo>
                <a:lnTo>
                  <a:pt x="0" y="21600"/>
                </a:lnTo>
                <a:close/>
              </a:path>
              <a:path fill="lightenLess" w="27017" h="21600">
                <a:moveTo>
                  <a:pt x="0" y="0"/>
                </a:moveTo>
                <a:lnTo>
                  <a:pt x="27017" y="0"/>
                </a:lnTo>
                <a:lnTo>
                  <a:pt x="25617" y="1400"/>
                </a:lnTo>
                <a:lnTo>
                  <a:pt x="1400" y="1400"/>
                </a:lnTo>
                <a:close/>
              </a:path>
              <a:path fill="darken" w="27017" h="21600">
                <a:moveTo>
                  <a:pt x="27017" y="0"/>
                </a:moveTo>
                <a:lnTo>
                  <a:pt x="27017" y="21600"/>
                </a:lnTo>
                <a:lnTo>
                  <a:pt x="25617" y="20200"/>
                </a:lnTo>
                <a:lnTo>
                  <a:pt x="25617" y="1400"/>
                </a:lnTo>
                <a:close/>
              </a:path>
              <a:path fill="darkenLess" w="27017" h="21600">
                <a:moveTo>
                  <a:pt x="270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7" y="20200"/>
                </a:lnTo>
                <a:close/>
              </a:path>
              <a:path fill="lighten" w="270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3924360" y="3357720"/>
            <a:ext cx="1368360" cy="1008000"/>
          </a:xfrm>
          <a:custGeom>
            <a:avLst/>
            <a:gdLst>
              <a:gd name="textAreaLeft" fmla="*/ 65160 w 1368360"/>
              <a:gd name="textAreaRight" fmla="*/ 1303200 w 1368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9319" h="21600">
                <a:moveTo>
                  <a:pt x="0" y="0"/>
                </a:moveTo>
                <a:lnTo>
                  <a:pt x="29319" y="0"/>
                </a:lnTo>
                <a:lnTo>
                  <a:pt x="29319" y="21600"/>
                </a:lnTo>
                <a:lnTo>
                  <a:pt x="0" y="21600"/>
                </a:lnTo>
                <a:close/>
              </a:path>
              <a:path fill="lightenLess" w="29319" h="21600">
                <a:moveTo>
                  <a:pt x="0" y="0"/>
                </a:moveTo>
                <a:lnTo>
                  <a:pt x="29319" y="0"/>
                </a:lnTo>
                <a:lnTo>
                  <a:pt x="27919" y="1400"/>
                </a:lnTo>
                <a:lnTo>
                  <a:pt x="1400" y="1400"/>
                </a:lnTo>
                <a:close/>
              </a:path>
              <a:path fill="darken" w="29319" h="21600">
                <a:moveTo>
                  <a:pt x="29319" y="0"/>
                </a:moveTo>
                <a:lnTo>
                  <a:pt x="29319" y="21600"/>
                </a:lnTo>
                <a:lnTo>
                  <a:pt x="27919" y="20200"/>
                </a:lnTo>
                <a:lnTo>
                  <a:pt x="27919" y="1400"/>
                </a:lnTo>
                <a:close/>
              </a:path>
              <a:path fill="darkenLess" w="29319" h="21600">
                <a:moveTo>
                  <a:pt x="2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9" y="20200"/>
                </a:lnTo>
                <a:close/>
              </a:path>
              <a:path fill="lighten" w="2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6732720" y="3500280"/>
            <a:ext cx="1295280" cy="865440"/>
          </a:xfrm>
          <a:custGeom>
            <a:avLst/>
            <a:gdLst>
              <a:gd name="textAreaLeft" fmla="*/ 55800 w 1295280"/>
              <a:gd name="textAreaRight" fmla="*/ 1239480 w 129528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8388360" y="602136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8101080" y="189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12973" y="3837"/>
                </a:moveTo>
                <a:lnTo>
                  <a:pt x="15549" y="6448"/>
                </a:lnTo>
                <a:lnTo>
                  <a:pt x="15549" y="4707"/>
                </a:lnTo>
                <a:lnTo>
                  <a:pt x="17325" y="4707"/>
                </a:lnTo>
                <a:lnTo>
                  <a:pt x="17325" y="8224"/>
                </a:lnTo>
                <a:lnTo>
                  <a:pt x="19936" y="10800"/>
                </a:lnTo>
                <a:lnTo>
                  <a:pt x="18282" y="10800"/>
                </a:lnTo>
                <a:lnTo>
                  <a:pt x="18282" y="17989"/>
                </a:lnTo>
                <a:lnTo>
                  <a:pt x="7664" y="17989"/>
                </a:lnTo>
                <a:lnTo>
                  <a:pt x="7664" y="10800"/>
                </a:lnTo>
                <a:lnTo>
                  <a:pt x="6010" y="10800"/>
                </a:lnTo>
                <a:close/>
              </a:path>
              <a:path fill="darkenLess" w="25946" h="21600">
                <a:moveTo>
                  <a:pt x="15549" y="6448"/>
                </a:moveTo>
                <a:lnTo>
                  <a:pt x="15549" y="4707"/>
                </a:lnTo>
                <a:lnTo>
                  <a:pt x="17325" y="4707"/>
                </a:lnTo>
                <a:lnTo>
                  <a:pt x="17325" y="8224"/>
                </a:lnTo>
                <a:close/>
              </a:path>
              <a:path fill="darkenLess" w="25946" h="21600">
                <a:moveTo>
                  <a:pt x="12050" y="14299"/>
                </a:moveTo>
                <a:lnTo>
                  <a:pt x="13896" y="14299"/>
                </a:lnTo>
                <a:lnTo>
                  <a:pt x="13896" y="17989"/>
                </a:lnTo>
                <a:lnTo>
                  <a:pt x="18282" y="17989"/>
                </a:lnTo>
                <a:lnTo>
                  <a:pt x="18282" y="10800"/>
                </a:lnTo>
                <a:lnTo>
                  <a:pt x="7664" y="10800"/>
                </a:lnTo>
                <a:lnTo>
                  <a:pt x="7664" y="17989"/>
                </a:lnTo>
                <a:lnTo>
                  <a:pt x="12050" y="17989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79280" y="1557360"/>
          <a:ext cx="8713800" cy="6365880"/>
        </p:xfrm>
        <a:graphic>
          <a:graphicData uri="http://schemas.openxmlformats.org/drawingml/2006/table">
            <a:tbl>
              <a:tblPr/>
              <a:tblGrid>
                <a:gridCol w="4357800"/>
                <a:gridCol w="4356000"/>
              </a:tblGrid>
              <a:tr h="636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 to move with technolog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ll need to be skilled with the same information to be successful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 to utilize the technology we have in the school and use it to its full potential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 each other to help develop our skills and resourc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“team-based” learning as a staff and as a small school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have we don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viewed structures already in place to see if they are effectiv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essional Development in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cootle - Atomic Learning - Promethean -  World Book Onli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allation of Interactive whiteboards in all classroom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ease given to class teachers to use the school resources for planning and learning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lder has been created on the school server for sharing of resources and lesson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teachers are members of the LTLL Wiki to broaden their scope of learning through interacting with other schools, sharing ideas and asking advi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cus 5: Educative Leadership</a:t>
            </a:r>
            <a:br>
              <a:rPr sz="2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adership for professional learning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upports team-based learning through school structures and procedures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8172360" y="1890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900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cus 6  Authentic Learner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ing for learn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Uses technology to support teaching and learning.                                                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50920" y="1125360"/>
          <a:ext cx="8713800" cy="58975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58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diting of resources is neede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ll staff are skilled enough to fully utilise technolog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 to make better use of the  technology in our school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have PD opportunities to build on this are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have we don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scriptions to Mathletics and World Book Onlin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dited IT resources in the school by all staff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release given to all teacher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taff are members of 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LTLL  Wiki - Promethean Plan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cootle -Atomic Learning -SMARTAustral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ren are using Microsoft Power point, Word and Photo stor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chers are designing interesting &amp; engaging lessons using the Interactive Whiteboards and are sharing them via the IT folder set up on the school serve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ch staff has a hard copy of power points used for PD &amp; a computer trouble shooting guid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ff have been inserviced on Activotes they are being trialed in the Primary clas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8028000" y="333360"/>
            <a:ext cx="865080" cy="792000"/>
          </a:xfrm>
          <a:custGeom>
            <a:avLst/>
            <a:gdLst>
              <a:gd name="textAreaLeft" fmla="*/ 51120 w 865080"/>
              <a:gd name="textAreaRight" fmla="*/ 813960 w 865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92" h="21600">
                <a:moveTo>
                  <a:pt x="0" y="0"/>
                </a:moveTo>
                <a:lnTo>
                  <a:pt x="23592" y="0"/>
                </a:lnTo>
                <a:lnTo>
                  <a:pt x="23592" y="21600"/>
                </a:lnTo>
                <a:lnTo>
                  <a:pt x="0" y="21600"/>
                </a:lnTo>
                <a:close/>
              </a:path>
              <a:path fill="lightenLess" w="23592" h="21600">
                <a:moveTo>
                  <a:pt x="0" y="0"/>
                </a:moveTo>
                <a:lnTo>
                  <a:pt x="23592" y="0"/>
                </a:lnTo>
                <a:lnTo>
                  <a:pt x="22192" y="1400"/>
                </a:lnTo>
                <a:lnTo>
                  <a:pt x="1400" y="1400"/>
                </a:lnTo>
                <a:close/>
              </a:path>
              <a:path fill="darken" w="23592" h="21600">
                <a:moveTo>
                  <a:pt x="23592" y="0"/>
                </a:moveTo>
                <a:lnTo>
                  <a:pt x="23592" y="21600"/>
                </a:lnTo>
                <a:lnTo>
                  <a:pt x="22192" y="20200"/>
                </a:lnTo>
                <a:lnTo>
                  <a:pt x="22192" y="1400"/>
                </a:lnTo>
                <a:close/>
              </a:path>
              <a:path fill="darkenLess" w="23592" h="21600">
                <a:moveTo>
                  <a:pt x="23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92" y="20200"/>
                </a:lnTo>
                <a:close/>
              </a:path>
              <a:path fill="lighten" w="23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92" h="21600">
                <a:moveTo>
                  <a:pt x="11796" y="3837"/>
                </a:moveTo>
                <a:lnTo>
                  <a:pt x="14372" y="6448"/>
                </a:lnTo>
                <a:lnTo>
                  <a:pt x="14372" y="4707"/>
                </a:lnTo>
                <a:lnTo>
                  <a:pt x="16148" y="4707"/>
                </a:lnTo>
                <a:lnTo>
                  <a:pt x="16148" y="8224"/>
                </a:lnTo>
                <a:lnTo>
                  <a:pt x="18759" y="10800"/>
                </a:lnTo>
                <a:lnTo>
                  <a:pt x="17105" y="10800"/>
                </a:lnTo>
                <a:lnTo>
                  <a:pt x="17105" y="17989"/>
                </a:lnTo>
                <a:lnTo>
                  <a:pt x="6487" y="17989"/>
                </a:lnTo>
                <a:lnTo>
                  <a:pt x="6487" y="10800"/>
                </a:lnTo>
                <a:lnTo>
                  <a:pt x="4833" y="10800"/>
                </a:lnTo>
                <a:close/>
              </a:path>
              <a:path fill="darkenLess" w="23592" h="21600">
                <a:moveTo>
                  <a:pt x="14372" y="6448"/>
                </a:moveTo>
                <a:lnTo>
                  <a:pt x="14372" y="4707"/>
                </a:lnTo>
                <a:lnTo>
                  <a:pt x="16148" y="4707"/>
                </a:lnTo>
                <a:lnTo>
                  <a:pt x="16148" y="8224"/>
                </a:lnTo>
                <a:close/>
              </a:path>
              <a:path fill="darkenLess" w="23592" h="21600">
                <a:moveTo>
                  <a:pt x="10874" y="14299"/>
                </a:moveTo>
                <a:lnTo>
                  <a:pt x="12719" y="14299"/>
                </a:lnTo>
                <a:lnTo>
                  <a:pt x="12719" y="17989"/>
                </a:lnTo>
                <a:lnTo>
                  <a:pt x="17105" y="17989"/>
                </a:lnTo>
                <a:lnTo>
                  <a:pt x="17105" y="10800"/>
                </a:lnTo>
                <a:lnTo>
                  <a:pt x="6487" y="10800"/>
                </a:lnTo>
                <a:lnTo>
                  <a:pt x="6487" y="17989"/>
                </a:lnTo>
                <a:lnTo>
                  <a:pt x="10874" y="17989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9000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cus 6  Authentic Learner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 for learn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hallenges students in all areas of their development.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50920" y="1341360"/>
          <a:ext cx="8713800" cy="459900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46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cus on the higher achievers of the school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ise technology bette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 how IT is being used to cater for high achievers and all others students across the KLAs by looking at class program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view of the IT scope &amp; sequence so it caters for all students, especially scope for the high achievers, and make sure it incorporates the use of the Interactive Whiteboard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have we don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chers have focused on designing interesting and engaging lessons using their Interactive Whiteboard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ff have been inserviced on using Activotes and they are being trialed in the Primary class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essional Development in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cootle - Atomic Learning - Promethean -  World Book Onli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755640" y="61657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ill a work in progress with this focus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successful have we bee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are continuing to implement our action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have a positive attitude towards using technology and keen to share successes, resources, ideas and less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feel more confident to use technology after the professional development we have d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begun to make a great bank of resources for the whole staff to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essional Development opportunities have supported the staff to further develop their skills and less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ing with Hillston in LTLL discussions to share ide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a common vi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ree Challe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suring the computers in the school are up to speed for the new techno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out the best way to use technology to cater for our high achie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suring all classes have the same opportunity to engage in the technology the school 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ree things we have lear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y has so much to offer our students, our teaching program and our classr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more collaboration and more talk between staff about what we are doing in our classr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hildren are engaged in lessons when using the Interactive Whiteboa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03:04:53Z</dcterms:created>
  <dc:creator> </dc:creator>
  <dc:description/>
  <dc:language>en-US</dc:language>
  <cp:lastModifiedBy>melissah</cp:lastModifiedBy>
  <dcterms:modified xsi:type="dcterms:W3CDTF">2010-08-25T23:08:42Z</dcterms:modified>
  <cp:revision>18</cp:revision>
  <dc:subject/>
  <dc:title>St Mary’s Primary School, Hay.</dc:title>
</cp:coreProperties>
</file>